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4.xml" ContentType="application/vnd.openxmlformats-officedocument.presentationml.notesSlide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23.png" ContentType="image/png"/>
  <Override PartName="/ppt/media/image9.jpeg" ContentType="image/jpeg"/>
  <Override PartName="/ppt/media/image11.jpeg" ContentType="image/jpeg"/>
  <Override PartName="/ppt/media/image12.jpeg" ContentType="image/jpeg"/>
  <Override PartName="/ppt/media/cashreg.wav" ContentType="audio/x-wav"/>
  <Override PartName="/ppt/media/image7.jpeg" ContentType="image/jpeg"/>
  <Override PartName="/ppt/media/image20.png" ContentType="image/pn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5.jpeg" ContentType="image/jpeg"/>
  <Override PartName="/ppt/media/image26.gif" ContentType="image/gif"/>
  <Override PartName="/ppt/media/image24.png" ContentType="image/png"/>
  <Override PartName="/ppt/media/image18.jpeg" ContentType="image/jpeg"/>
  <Override PartName="/ppt/media/image22.png" ContentType="image/png"/>
  <Override PartName="/ppt/media/image19.jpeg" ContentType="image/jpeg"/>
  <Override PartName="/ppt/media/image17.jpeg" ContentType="image/jpeg"/>
  <Override PartName="/ppt/media/image21.png" ContentType="image/png"/>
  <Override PartName="/ppt/media/image16.gif" ContentType="image/gif"/>
  <Override PartName="/ppt/media/image1.jpeg" ContentType="image/jpeg"/>
  <Override PartName="/ppt/media/image15.wmf" ContentType="image/x-wmf"/>
  <Override PartName="/ppt/media/image2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7077075" cy="9028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7077600" cy="90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7"/>
          </p:nvPr>
        </p:nvSpPr>
        <p:spPr>
          <a:xfrm>
            <a:off x="4008240" y="0"/>
            <a:ext cx="30668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282680" y="677520"/>
            <a:ext cx="451152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707760" y="4289040"/>
            <a:ext cx="5661000" cy="40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8"/>
          </p:nvPr>
        </p:nvSpPr>
        <p:spPr>
          <a:xfrm>
            <a:off x="0" y="8575200"/>
            <a:ext cx="306720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9"/>
          </p:nvPr>
        </p:nvSpPr>
        <p:spPr>
          <a:xfrm>
            <a:off x="4008240" y="8575200"/>
            <a:ext cx="306684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E95F4-F0C5-4A23-AE8B-4DF317ACEE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4008600" y="857556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6A7D4-637D-4010-A53B-BBBAE46B797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282680" y="677880"/>
            <a:ext cx="4511520" cy="33843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707760" y="4289040"/>
            <a:ext cx="5661000" cy="40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4008600" y="857556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DD3F1-DCD0-48FD-9AC4-95E11557D9F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282680" y="677880"/>
            <a:ext cx="4511520" cy="338436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707760" y="4289040"/>
            <a:ext cx="5661000" cy="40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4008600" y="857556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57F4C-0524-4CBB-B797-BB4A9C0954E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282680" y="677880"/>
            <a:ext cx="4511520" cy="338436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707760" y="4289040"/>
            <a:ext cx="5661000" cy="40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4008600" y="857556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4B5C4-BC44-44A6-B42E-C48653239F9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282680" y="677880"/>
            <a:ext cx="4511520" cy="338436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707760" y="4289040"/>
            <a:ext cx="5661000" cy="40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4008600" y="857556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31164-F6C2-4053-9725-E02B16D3B8F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282680" y="677880"/>
            <a:ext cx="4511520" cy="338436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707760" y="4289040"/>
            <a:ext cx="5661000" cy="40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4008600" y="857556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45957-7E36-4BD6-8EBF-C57623B19CC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282680" y="677880"/>
            <a:ext cx="4511520" cy="338436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07760" y="4289040"/>
            <a:ext cx="5661000" cy="40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4008600" y="857556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62180-A815-4680-AECA-EE01D9FA7FF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282680" y="677880"/>
            <a:ext cx="4511520" cy="338436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707760" y="4289040"/>
            <a:ext cx="5661000" cy="40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59A7-0F9D-448B-9FED-9CE94C5E0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069F-6B68-4061-AF2A-6EA08B5B6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EA6B-DB15-4E83-97AC-6F3401DD2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2508-C02E-4D2D-ADC7-B37972D9D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4D8FAE-01C5-450C-9B9D-ABB332637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69182D-2D63-4182-8278-67F59C6B0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1B8FA0-A399-4A08-B2BF-FE2B30FA7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7AC058-85E8-435F-9F55-7BCB4D4F9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7EF911-5069-41C0-AB9E-D95769D2D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C96E21-3BEB-44B8-8600-6EE329853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B8BDEC-DAA7-4D71-811E-6F4A71E65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C1D6-1D9D-4DA2-BC22-BB8B49AED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435DB3-7A89-48ED-9DAD-EF9FDE917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A641CC-8075-4259-9E9A-4964C0CCF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D52B3D-9182-46A9-A9E9-D1CE3CC49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9068FE-2AF1-4D0B-B930-1AE3C1A86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6AF459-48EB-4BFD-A523-A4B3028BC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C985-4FD3-443B-ABD1-7D38F4703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8B80-73C0-4F69-BA61-931D46BE7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2676-E259-436B-98EF-66390EE39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84C0-179C-4AB2-8061-345F236FD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B7A7-576E-479D-B09B-D5D63BABC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32A1-A9D8-4853-904D-0AB139FA7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2B54-6B67-41CC-A7C2-2D7282F6A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02BF7-505A-4E0D-96CD-BB81F40D87A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Rectangle 2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3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7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8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9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4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6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" name="Rectangle 2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77420-D9F2-4ABC-B634-15BD8E22BDF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3416"/>
            </a:gs>
            <a:gs pos="100000">
              <a:srgbClr val="33cc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2"/>
          <p:cNvSpPr/>
          <p:nvPr/>
        </p:nvSpPr>
        <p:spPr>
          <a:xfrm>
            <a:off x="900000" y="3625920"/>
            <a:ext cx="8067960" cy="9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Arial Narrow"/>
              </a:rPr>
              <a:t>Muhrodi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 Narrow"/>
              </a:rPr>
              <a:t>PENGAWAS KETENAGAKERJA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5562720" y="602136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201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15"/>
          <p:cNvSpPr/>
          <p:nvPr/>
        </p:nvSpPr>
        <p:spPr>
          <a:xfrm>
            <a:off x="647640" y="836640"/>
            <a:ext cx="8317080" cy="14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 Narrow"/>
              </a:rPr>
              <a:t>KESEHATAN KERJ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H="1">
            <a:off x="1593720" y="5157720"/>
            <a:ext cx="701064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2"/>
          <p:cNvSpPr/>
          <p:nvPr/>
        </p:nvSpPr>
        <p:spPr>
          <a:xfrm>
            <a:off x="324000" y="260280"/>
            <a:ext cx="8534160" cy="64008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UU No.1 Tahun 1970</a:t>
            </a:r>
            <a:r>
              <a:rPr b="0" lang="en-US" sz="2600" spc="-1" strike="noStrike">
                <a:solidFill>
                  <a:srgbClr val="e3e3ff"/>
                </a:solidFill>
                <a:latin typeface="Arial"/>
              </a:rPr>
              <a:t>  </a:t>
            </a:r>
            <a:br>
              <a:rPr sz="2600"/>
            </a:br>
            <a:r>
              <a:rPr b="0" lang="en-US" sz="2500" spc="-1" strike="noStrike">
                <a:solidFill>
                  <a:srgbClr val="e3e3ff"/>
                </a:solidFill>
                <a:latin typeface="Arial"/>
              </a:rPr>
              <a:t>tentang</a:t>
            </a:r>
            <a:br>
              <a:rPr sz="2500"/>
            </a:br>
            <a:r>
              <a:rPr b="0" lang="en-US" sz="3300" spc="-1" strike="noStrike">
                <a:solidFill>
                  <a:srgbClr val="e3e3ff"/>
                </a:solidFill>
                <a:latin typeface="Arial"/>
              </a:rPr>
              <a:t>Keselamatan Kerja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823280" y="3139560"/>
            <a:ext cx="2953440" cy="2772720"/>
          </a:xfrm>
          <a:prstGeom prst="rect">
            <a:avLst/>
          </a:prstGeom>
          <a:solidFill>
            <a:srgbClr val="336600"/>
          </a:solidFill>
          <a:ln w="9360">
            <a:solidFill>
              <a:srgbClr val="ffffff"/>
            </a:solidFill>
            <a:round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yarat-syara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esehata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er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Oval 4"/>
          <p:cNvSpPr/>
          <p:nvPr/>
        </p:nvSpPr>
        <p:spPr>
          <a:xfrm>
            <a:off x="539640" y="2565360"/>
            <a:ext cx="4175280" cy="39211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yarat-syara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eselamata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er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5"/>
          <p:cNvSpPr/>
          <p:nvPr/>
        </p:nvSpPr>
        <p:spPr>
          <a:xfrm>
            <a:off x="4841640" y="4013280"/>
            <a:ext cx="301392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Garamond"/>
                <a:ea typeface="Arial"/>
              </a:rPr>
              <a:t>Pencegah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Garamond"/>
                <a:ea typeface="Arial"/>
              </a:rPr>
              <a:t>Penyakit Akibat Kerj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6"/>
          <p:cNvSpPr/>
          <p:nvPr/>
        </p:nvSpPr>
        <p:spPr>
          <a:xfrm>
            <a:off x="1384560" y="4076640"/>
            <a:ext cx="244080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Garamond"/>
                <a:ea typeface="Arial"/>
              </a:rPr>
              <a:t>Pencegah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Garamond"/>
                <a:ea typeface="Arial"/>
              </a:rPr>
              <a:t>Kecelakaan Kerj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7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1" dur="5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4" dur="5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549360"/>
            <a:ext cx="8286840" cy="652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3e3ff"/>
                </a:solidFill>
                <a:latin typeface="Times New Roman"/>
              </a:rPr>
              <a:t>Tujuan K3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28120" y="1752120"/>
            <a:ext cx="8215560" cy="357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ncegah Kecelakaan Kerja 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ledak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ebakar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ncemaran lingkung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Penyakit Akibat Ker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ningkatkan produktivitas ker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533520" y="1968480"/>
            <a:ext cx="8153280" cy="45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CG Omega"/>
              </a:rPr>
              <a:t>Promosi dan pemeliharaan</a:t>
            </a:r>
            <a:r>
              <a:rPr b="0" lang="en-US" sz="2400" spc="-1" strike="noStrike">
                <a:solidFill>
                  <a:srgbClr val="ffffff"/>
                </a:solidFill>
                <a:latin typeface="CG Omega"/>
              </a:rPr>
              <a:t> derajat yang setinggi-tingginya dari kesehatan fisik, mental dan sosial dari pekerja pada semua pekerjaan; </a:t>
            </a:r>
            <a:r>
              <a:rPr b="1" i="1" lang="en-US" sz="2400" spc="-1" strike="noStrike">
                <a:solidFill>
                  <a:srgbClr val="cc0000"/>
                </a:solidFill>
                <a:latin typeface="CG Omega"/>
              </a:rPr>
              <a:t>pencegahan gangguan kesehatan</a:t>
            </a:r>
            <a:r>
              <a:rPr b="0" lang="en-US" sz="2400" spc="-1" strike="noStrike">
                <a:solidFill>
                  <a:srgbClr val="ffffff"/>
                </a:solidFill>
                <a:latin typeface="CG Omega"/>
              </a:rPr>
              <a:t> pada pekerja yang disebabkan oleh kondisi kerja mereka; </a:t>
            </a:r>
            <a:r>
              <a:rPr b="1" i="1" lang="en-US" sz="2400" spc="-1" strike="noStrike">
                <a:solidFill>
                  <a:srgbClr val="cc0000"/>
                </a:solidFill>
                <a:latin typeface="CG Omega"/>
              </a:rPr>
              <a:t>perlindungan pekerja</a:t>
            </a:r>
            <a:r>
              <a:rPr b="0" lang="en-US" sz="2400" spc="-1" strike="noStrike">
                <a:solidFill>
                  <a:srgbClr val="ffffff"/>
                </a:solidFill>
                <a:latin typeface="CG Omega"/>
              </a:rPr>
              <a:t> dalam pekerjaan mereka dari resiko akibat faktor-faktor yang mengganggu kesehatan; </a:t>
            </a:r>
            <a:r>
              <a:rPr b="1" i="1" lang="en-US" sz="2400" spc="-1" strike="noStrike">
                <a:solidFill>
                  <a:srgbClr val="cc0000"/>
                </a:solidFill>
                <a:latin typeface="CG Omega"/>
              </a:rPr>
              <a:t>penempatan dan pemeliharaan pekerja</a:t>
            </a:r>
            <a:r>
              <a:rPr b="0" lang="en-US" sz="2400" spc="-1" strike="noStrike">
                <a:solidFill>
                  <a:srgbClr val="ffffff"/>
                </a:solidFill>
                <a:latin typeface="CG Omega"/>
              </a:rPr>
              <a:t> dalam suatu lingkungan kerja yang sesuai dengan kemampuan fisik dan psikologisnya; dan sebagai kesimpulan, penyesuaian pekerjaan, terhadap manusia dan setiap manusia terhadap pekerjaanny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Rectangle 3"/>
          <p:cNvSpPr/>
          <p:nvPr/>
        </p:nvSpPr>
        <p:spPr>
          <a:xfrm>
            <a:off x="533520" y="457200"/>
            <a:ext cx="8153280" cy="1066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G Omeg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G Omega"/>
              </a:rPr>
              <a:t>Pengertian Kesehatan Kerja menurut Joint ILO/WHO Committee tahun 1995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755280" y="2349000"/>
            <a:ext cx="799308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1225"/>
              </a:spcBef>
              <a:buClr>
                <a:srgbClr val="e3e3ff"/>
              </a:buClr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CG Omega"/>
              </a:rPr>
              <a:t>Salah satu lembaga K3 di perusaha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1225"/>
              </a:spcBef>
              <a:buClr>
                <a:srgbClr val="e3e3ff"/>
              </a:buClr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CG Omega"/>
              </a:rPr>
              <a:t>Sarana penyelenggaraan upaya kesehatan kerja yang bersifat komprehensif (promotif, preventif, kuratif dan rehabilitatif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1225"/>
              </a:spcBef>
              <a:buClr>
                <a:srgbClr val="e3e3ff"/>
              </a:buClr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G Omega"/>
              </a:rPr>
              <a:t>Diatur dalam Permennakertrans No. Per. 03/Men/198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Picture 4" descr="bd04956_"/>
          <p:cNvPicPr/>
          <p:nvPr/>
        </p:nvPicPr>
        <p:blipFill>
          <a:blip r:embed="rId1"/>
          <a:stretch/>
        </p:blipFill>
        <p:spPr>
          <a:xfrm>
            <a:off x="7812000" y="4800600"/>
            <a:ext cx="1408320" cy="2036880"/>
          </a:xfrm>
          <a:prstGeom prst="rect">
            <a:avLst/>
          </a:prstGeom>
          <a:ln w="0">
            <a:noFill/>
          </a:ln>
        </p:spPr>
      </p:pic>
      <p:sp>
        <p:nvSpPr>
          <p:cNvPr id="191" name="Rectangle 5"/>
          <p:cNvSpPr/>
          <p:nvPr/>
        </p:nvSpPr>
        <p:spPr>
          <a:xfrm>
            <a:off x="826920" y="476280"/>
            <a:ext cx="7705800" cy="136836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CG Omega"/>
              </a:rPr>
              <a:t>LEMBAGA/ORGANISAS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CG Omega"/>
              </a:rPr>
              <a:t>PELAYANAN KESEHATAN KERJA (Occupation Health Servic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2"/>
          <p:cNvSpPr/>
          <p:nvPr/>
        </p:nvSpPr>
        <p:spPr>
          <a:xfrm>
            <a:off x="361800" y="480240"/>
            <a:ext cx="845820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Square721 BT"/>
              </a:rPr>
              <a:t>PELAKSANAAN PELAYANAN KESEHATAN KERJ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376200" y="2057400"/>
            <a:ext cx="84438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cc"/>
                </a:solidFill>
                <a:latin typeface="Square721 BT"/>
              </a:rPr>
              <a:t>Pelayanan Kesehatan Kerj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Square721 BT"/>
              </a:rPr>
              <a:t>Permennaker No. 03/198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Square721 BT"/>
              </a:rPr>
              <a:t>Pelayanan Kesehatan Kerj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cc"/>
                </a:solidFill>
                <a:latin typeface="Square721 BT"/>
              </a:rPr>
              <a:t>PJK3 bidang Kesehatan Kerj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quare721 BT"/>
              </a:rPr>
              <a:t>Permenaker No.04/Men/1995</a:t>
            </a:r>
            <a:r>
              <a:rPr b="0" lang="en-US" sz="2000" spc="-1" strike="noStrike">
                <a:solidFill>
                  <a:srgbClr val="ffffff"/>
                </a:solidFill>
                <a:latin typeface="Square721 BT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Square721 BT"/>
              </a:rPr>
              <a:t>Jasa pemeriksaan kesehatan TK, pengujian lingkugan Kerja dan atau Pelayanan Kesehatan Kerj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324000" y="1410480"/>
            <a:ext cx="84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cc"/>
                </a:solidFill>
                <a:latin typeface="Square721 BT"/>
              </a:rPr>
              <a:t>Dilaksanakan melalui Lembaga Kesehatan Kerja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06280" y="326880"/>
            <a:ext cx="8686800" cy="130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e3ff"/>
                </a:solidFill>
                <a:latin typeface="CG Omega"/>
              </a:rPr>
              <a:t>TATA CARA PENYELENGGARAAN</a:t>
            </a:r>
            <a:br>
              <a:rPr sz="2800"/>
            </a:br>
            <a:r>
              <a:rPr b="1" lang="en-US" sz="2800" spc="-1" strike="noStrike">
                <a:solidFill>
                  <a:srgbClr val="e3e3ff"/>
                </a:solidFill>
                <a:latin typeface="CG Omega"/>
              </a:rPr>
              <a:t> PELAYANAN KESEHATAN KERJA </a:t>
            </a:r>
            <a:br>
              <a:rPr sz="2800"/>
            </a:br>
            <a:r>
              <a:rPr b="1" i="1" lang="en-US" sz="2000" spc="-1" strike="noStrike">
                <a:solidFill>
                  <a:srgbClr val="e3e3ff"/>
                </a:solidFill>
                <a:latin typeface="CG Omega"/>
              </a:rPr>
              <a:t>Permennakertrans No. Per. 03/Men/1982</a:t>
            </a:r>
            <a:endParaRPr b="0" lang="en-US" sz="2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44240" y="1771200"/>
            <a:ext cx="8304120" cy="417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e3ff"/>
                </a:solidFill>
                <a:latin typeface="CG Omega"/>
              </a:rPr>
              <a:t>Diselenggarakan sendiri oleh pengur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e3ff"/>
                </a:solidFill>
                <a:latin typeface="CG Omega"/>
              </a:rPr>
              <a:t>Diselenggarakan oleh pengurus dengan mengadakan ikatan/kerja sama dengan dokter atau pelayanan kesehata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e3ff"/>
                </a:solidFill>
                <a:latin typeface="CG Omega"/>
              </a:rPr>
              <a:t>Diselenggarakan secara bersama antara beberapa perusaha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3e3ff"/>
                </a:solidFill>
                <a:latin typeface="Arial"/>
              </a:rPr>
              <a:t>Bentuk Penyelenggaraan Pelayanan Kesehatan Kerja berdasarkan Jml Tenaga Kerja dan Tingkat Bahaya Di Tempat Kerja</a:t>
            </a:r>
            <a:br>
              <a:rPr sz="2000"/>
            </a:br>
            <a:r>
              <a:rPr b="0" lang="en-US" sz="1600" spc="-1" strike="noStrike">
                <a:solidFill>
                  <a:srgbClr val="e3e3ff"/>
                </a:solidFill>
                <a:latin typeface="Arial"/>
              </a:rPr>
              <a:t>(Lampiran Permenaker N0 03 th 1982)</a:t>
            </a:r>
            <a:endParaRPr b="0" lang="en-US" sz="16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457200" y="1219320"/>
          <a:ext cx="8229600" cy="4924440"/>
        </p:xfrm>
        <a:graphic>
          <a:graphicData uri="http://schemas.openxmlformats.org/drawingml/2006/table">
            <a:tbl>
              <a:tblPr/>
              <a:tblGrid>
                <a:gridCol w="457200"/>
                <a:gridCol w="2286000"/>
                <a:gridCol w="1905120"/>
                <a:gridCol w="3581280"/>
              </a:tblGrid>
              <a:tr h="51804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No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Jumlah Tenaga Kerj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Tingkat Bahay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Cara Penyelengaraa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884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&gt; 500 orang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Rendah atau tingg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buClr>
                          <a:srgbClr val="ffffff"/>
                        </a:buClr>
                        <a:buFont typeface="Symbol" charset="2"/>
                        <a:buChar char="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Berbentuk klinik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ffffff"/>
                        </a:buClr>
                        <a:buFont typeface="Symbol" charset="2"/>
                        <a:buChar char="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Dipimpin oleh seorang dokter yg praktek tiap hari kerj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ffffff"/>
                        </a:buClr>
                        <a:buFont typeface="Symbol" charset="2"/>
                        <a:buChar char="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Tiap shift kerja harus ada poliklinik jag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200 – 500 orang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Tingg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buClr>
                          <a:srgbClr val="ffffff"/>
                        </a:buClr>
                        <a:buFont typeface="Symbol" charset="2"/>
                        <a:buChar char="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Ide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076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200 – 500 orang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Rendah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buClr>
                          <a:srgbClr val="ffffff"/>
                        </a:buClr>
                        <a:buFont typeface="Symbol" charset="2"/>
                        <a:buChar char="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Berbentuk klinik, buka tiap hari kerja (dilayani oleh paramedis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ffffff"/>
                        </a:buClr>
                        <a:buFont typeface="Symbol" charset="2"/>
                        <a:buChar char="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Dipimpin oleh dokter yg praktek tiap 2 (dua) hari sekal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100 – 200 orang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Tingg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buClr>
                          <a:srgbClr val="ffffff"/>
                        </a:buClr>
                        <a:buFont typeface="Symbol" charset="2"/>
                        <a:buChar char="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Ide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580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100 – 200 orang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Rendah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buClr>
                          <a:srgbClr val="ffffff"/>
                        </a:buClr>
                        <a:buFont typeface="Symbol" charset="2"/>
                        <a:buChar char="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Berbentuk klinik, buka tiap hari kerja (dilayani oleh paramedis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ffffff"/>
                        </a:buClr>
                        <a:buFont typeface="Symbol" charset="2"/>
                        <a:buChar char="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Dipimpin oleh dokter yg praktek tiap 3 (tiga) hari sekal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&lt; 100 orang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buClr>
                          <a:srgbClr val="ffffff"/>
                        </a:buClr>
                        <a:buFont typeface="Symbol" charset="2"/>
                        <a:buChar char="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Dapat menyelenggarakan PKK bersama (bergabung) dengan perusahaan lai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pull dir="ru"/>
    <p:sndAc>
      <p:stSnd>
        <p:snd r:embed="rId1" name="cashreg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178920" y="1066320"/>
            <a:ext cx="8812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876"/>
              </a:spcBef>
              <a:buClr>
                <a:srgbClr val="e3e3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yahkan oleh instansi ketenagakerjaan sesuai wilayah kewenanganny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876"/>
              </a:spcBef>
              <a:buClr>
                <a:srgbClr val="e3e3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pimpin dan dijalankan (dibawah tanggung jawab) dokter yang 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disetujui oleh Direktur (Dirjen Binwasnaker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an 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Dinas Tenga Kerja setempat….. (</a:t>
            </a:r>
            <a:r>
              <a:rPr b="1" lang="en-US" sz="2000" spc="-1" strike="noStrike">
                <a:solidFill>
                  <a:srgbClr val="ffffff"/>
                </a:solidFill>
                <a:latin typeface="Sylfaen"/>
              </a:rPr>
              <a:t>memiliki SKP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876"/>
              </a:spcBef>
              <a:buClr>
                <a:srgbClr val="e3e3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okter yang ditunjuk dan menjalankan  Pelayanan Kesehatan Kerja harus memenuhi persyaratan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876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mahami peraturan perundang-undangan keselamatan dan kesehatan kerja khususnya dibidang kesehatan kerja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876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menuhi persyaratan profesional yang disyahkan oleh instansi yang berwenang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Sylfae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Sylfaen"/>
              </a:rPr>
              <a:t>Dokter dan paramedis di pelayanan kesehatan kerja wajib memiliki sertifikat pelatihan hiperkes </a:t>
            </a:r>
            <a:r>
              <a:rPr b="1" lang="en-US" sz="1800" spc="-1" strike="noStrike">
                <a:solidFill>
                  <a:srgbClr val="ffcc00"/>
                </a:solidFill>
                <a:latin typeface="Arial Narrow"/>
              </a:rPr>
              <a:t>(Permennaker</a:t>
            </a:r>
            <a:r>
              <a:rPr b="0" lang="en-US" sz="2000" spc="-1" strike="noStrike">
                <a:solidFill>
                  <a:srgbClr val="ffcc00"/>
                </a:solidFill>
                <a:latin typeface="Arial Narrow"/>
              </a:rPr>
              <a:t> </a:t>
            </a:r>
            <a:r>
              <a:rPr b="1" lang="en-US" sz="1800" spc="-1" strike="noStrike">
                <a:solidFill>
                  <a:srgbClr val="ffcc00"/>
                </a:solidFill>
                <a:latin typeface="Arial Narrow"/>
              </a:rPr>
              <a:t>No. 01/1976, Permennaker No. 01/1979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Line 3"/>
          <p:cNvSpPr/>
          <p:nvPr/>
        </p:nvSpPr>
        <p:spPr>
          <a:xfrm>
            <a:off x="762120" y="502920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e3e3ff"/>
                </a:solidFill>
                <a:latin typeface="Arial"/>
              </a:rPr>
              <a:t>SYARAT-SYARAT PENYELENGGARAAN PELAYANAN KESEHATAN KERJA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26680" y="907560"/>
            <a:ext cx="807732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cc"/>
                </a:solidFill>
                <a:latin typeface="CG Omega"/>
              </a:rPr>
              <a:t>SDM yang memiliki kompetensi kesehatan kerja</a:t>
            </a:r>
            <a:r>
              <a:rPr b="1" i="1" lang="en-US" sz="2400" spc="-1" strike="noStrike">
                <a:solidFill>
                  <a:srgbClr val="ffffff"/>
                </a:solidFill>
                <a:latin typeface="CG Omega"/>
              </a:rPr>
              <a:t> :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79280" y="1412640"/>
            <a:ext cx="876312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G Omega"/>
              </a:rPr>
              <a:t>Dokter kesehatan kerja :</a:t>
            </a:r>
            <a:r>
              <a:rPr b="0" lang="en-US" sz="2800" spc="-1" strike="noStrike">
                <a:solidFill>
                  <a:srgbClr val="ffffff"/>
                </a:solidFill>
                <a:latin typeface="CG Omeg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CG Omeg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CG Omega"/>
              </a:rPr>
              <a:t>Permennakertrans No. Per. 01/Men/1976</a:t>
            </a:r>
            <a:r>
              <a:rPr b="0" lang="en-US" sz="2400" spc="-1" strike="noStrike">
                <a:solidFill>
                  <a:srgbClr val="ffffff"/>
                </a:solidFill>
                <a:latin typeface="CG Omeg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CG Omeg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CG Omega"/>
              </a:rPr>
              <a:t>UU No. 1/ 1970 pasal 8, Permennakertrans No. Per. 02/Men/1980</a:t>
            </a:r>
            <a:r>
              <a:rPr b="0" lang="en-US" sz="2400" spc="-1" strike="noStrike">
                <a:solidFill>
                  <a:srgbClr val="ffffff"/>
                </a:solidFill>
                <a:latin typeface="CG Omeg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CG Omeg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CG Omega"/>
              </a:rPr>
              <a:t>Permennakertrans Per. 03/Men/198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G Omega"/>
              </a:rPr>
              <a:t>Paramedis Perusahaan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CG Omeg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3ff"/>
                </a:solidFill>
                <a:latin typeface="CG Omega"/>
              </a:rPr>
              <a:t>Permennaker No. 01/1979</a:t>
            </a:r>
            <a:r>
              <a:rPr b="0" lang="en-US" sz="2400" spc="-1" strike="noStrike">
                <a:solidFill>
                  <a:srgbClr val="ffffff"/>
                </a:solidFill>
                <a:latin typeface="CG Omega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G Omega"/>
              </a:rPr>
              <a:t>Petugas P3K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CG Omeg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3ff"/>
                </a:solidFill>
                <a:latin typeface="CG Omega"/>
              </a:rPr>
              <a:t>UU No.1/1970 pasal 3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CG Omeg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3ff"/>
                </a:solidFill>
                <a:latin typeface="CG Omega"/>
              </a:rPr>
              <a:t>Permenaker No.03/1982, Permennaker No. Per. 15/Men/VIII/200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G Omega"/>
              </a:rPr>
              <a:t>Petugas Penyelenggara Makanan di Tmp Kerja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CG Omeg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3ff"/>
                </a:solidFill>
                <a:latin typeface="CG Omega"/>
              </a:rPr>
              <a:t>PMP No. 7 Th 1964 psl 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468360" y="189000"/>
            <a:ext cx="8280360" cy="77148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CG Omega"/>
              </a:rPr>
              <a:t>Personil/SD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3e3ff"/>
                </a:solidFill>
                <a:latin typeface="Arial"/>
              </a:rPr>
              <a:t>SYARAT DOKTER PENANGGUNG JAWAB  </a:t>
            </a:r>
            <a:br>
              <a:rPr sz="2400"/>
            </a:br>
            <a:r>
              <a:rPr b="1" lang="en-US" sz="2400" spc="-1" strike="noStrike">
                <a:solidFill>
                  <a:srgbClr val="e3e3ff"/>
                </a:solidFill>
                <a:latin typeface="Arial"/>
              </a:rPr>
              <a:t>PELAYANAN KESEHATAN KERJA </a:t>
            </a:r>
            <a:br>
              <a:rPr sz="2400"/>
            </a:br>
            <a:r>
              <a:rPr b="1" i="1" lang="en-US" sz="1800" spc="-1" strike="noStrike">
                <a:solidFill>
                  <a:srgbClr val="e3e3ff"/>
                </a:solidFill>
                <a:latin typeface="Arial"/>
              </a:rPr>
              <a:t>Permennakertrans No. 03/1982</a:t>
            </a:r>
            <a:endParaRPr b="0" lang="en-US" sz="1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305920" cy="376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499"/>
              </a:spcBef>
              <a:buClr>
                <a:srgbClr val="e3e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Ditunjuk oleh pimpinan perusaha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e3e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Disetujui oleh Disnaker Setemp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AutoShape 4"/>
          <p:cNvSpPr/>
          <p:nvPr/>
        </p:nvSpPr>
        <p:spPr>
          <a:xfrm>
            <a:off x="3962520" y="2852640"/>
            <a:ext cx="83808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Text Box 5"/>
          <p:cNvSpPr/>
          <p:nvPr/>
        </p:nvSpPr>
        <p:spPr>
          <a:xfrm>
            <a:off x="1143000" y="3809880"/>
            <a:ext cx="6934320" cy="1313640"/>
          </a:xfrm>
          <a:prstGeom prst="rect">
            <a:avLst/>
          </a:prstGeom>
          <a:noFill/>
          <a:ln w="9360">
            <a:solidFill>
              <a:srgbClr val="e3e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Telah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emiliki </a:t>
            </a:r>
            <a:r>
              <a:rPr b="1" lang="en-US" sz="2000" spc="-1" strike="noStrike" u="sng">
                <a:solidFill>
                  <a:srgbClr val="e3e3ff"/>
                </a:solidFill>
                <a:uFillTx/>
                <a:latin typeface="Verdana"/>
              </a:rPr>
              <a:t>Surat Keputusan Penunjukkan (SKP)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 u="sng">
                <a:solidFill>
                  <a:srgbClr val="e3e3ff"/>
                </a:solidFill>
                <a:uFillTx/>
                <a:latin typeface="Verdana"/>
              </a:rPr>
              <a:t>Dokter Pemeriksa Kesehatan Tenaga Kerja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dari Dirjen Binwasnaker cq Direktur Pengawasan Kesehatan Kerja Depnakertra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976320" y="333000"/>
            <a:ext cx="7772400" cy="64764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I n d u s t r i a l i s a s i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AutoShape 3"/>
          <p:cNvSpPr/>
          <p:nvPr/>
        </p:nvSpPr>
        <p:spPr>
          <a:xfrm>
            <a:off x="4643280" y="2133720"/>
            <a:ext cx="936720" cy="2808000"/>
          </a:xfrm>
          <a:prstGeom prst="downArrow">
            <a:avLst>
              <a:gd name="adj1" fmla="val 50000"/>
              <a:gd name="adj2" fmla="val 74942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J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AutoShape 4"/>
          <p:cNvSpPr/>
          <p:nvPr/>
        </p:nvSpPr>
        <p:spPr>
          <a:xfrm>
            <a:off x="3780000" y="2349360"/>
            <a:ext cx="936360" cy="2448000"/>
          </a:xfrm>
          <a:custGeom>
            <a:avLst/>
            <a:gdLst>
              <a:gd name="textAreaLeft" fmla="*/ 125280 w 936360"/>
              <a:gd name="textAreaRight" fmla="*/ 811080 w 936360"/>
              <a:gd name="textAreaTop" fmla="*/ 428400 h 2448000"/>
              <a:gd name="textAreaBottom" fmla="*/ 1774800 h 24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250920" y="2708280"/>
            <a:ext cx="3484440" cy="30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Dampak/Risiko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8200" indent="-268200">
              <a:lnSpc>
                <a:spcPct val="90000"/>
              </a:lnSpc>
              <a:buClr>
                <a:srgbClr val="00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Tenaga Kerja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191880">
              <a:lnSpc>
                <a:spcPct val="90000"/>
              </a:lnSpc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Kecelakaan kerj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191880">
              <a:lnSpc>
                <a:spcPct val="90000"/>
              </a:lnSpc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eny. Umum &amp; Akibat  Kerj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8200" indent="-268200">
              <a:lnSpc>
                <a:spcPct val="90000"/>
              </a:lnSpc>
              <a:buClr>
                <a:srgbClr val="00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Perusahaan 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191880">
              <a:lnSpc>
                <a:spcPct val="90000"/>
              </a:lnSpc>
              <a:buClr>
                <a:srgbClr val="00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Kualitas &amp; kuantitas produ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191880">
              <a:lnSpc>
                <a:spcPct val="90000"/>
              </a:lnSpc>
              <a:buClr>
                <a:srgbClr val="00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Kelangsungan usah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8200" indent="-268200">
              <a:lnSpc>
                <a:spcPct val="90000"/>
              </a:lnSpc>
              <a:buClr>
                <a:srgbClr val="00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Lingkungan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191880">
              <a:lnSpc>
                <a:spcPct val="90000"/>
              </a:lnSpc>
              <a:buClr>
                <a:srgbClr val="00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Pencemar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191880">
              <a:lnSpc>
                <a:spcPct val="90000"/>
              </a:lnSpc>
              <a:buClr>
                <a:srgbClr val="00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Global Warm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3851280" y="5187960"/>
            <a:ext cx="2952720" cy="901800"/>
          </a:xfrm>
          <a:prstGeom prst="rect">
            <a:avLst/>
          </a:prstGeom>
          <a:solidFill>
            <a:srgbClr val="3399ff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RODUKTIVITA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KERJ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6299280" y="2637000"/>
            <a:ext cx="2593800" cy="2167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Verdana"/>
              </a:rPr>
              <a:t>Masalah terkait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5000"/>
              </a:lnSpc>
              <a:spcBef>
                <a:spcPts val="675"/>
              </a:spcBef>
              <a:buClr>
                <a:srgbClr val="00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cc"/>
                </a:solidFill>
                <a:latin typeface="Verdana"/>
              </a:rPr>
              <a:t>NARKOB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5000"/>
              </a:lnSpc>
              <a:spcBef>
                <a:spcPts val="675"/>
              </a:spcBef>
              <a:buClr>
                <a:srgbClr val="00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cc"/>
                </a:solidFill>
                <a:latin typeface="Verdana"/>
              </a:rPr>
              <a:t>HIV &amp; AI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5000"/>
              </a:lnSpc>
              <a:spcBef>
                <a:spcPts val="675"/>
              </a:spcBef>
              <a:buClr>
                <a:srgbClr val="00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cc"/>
                </a:solidFill>
                <a:latin typeface="Verdana"/>
              </a:rPr>
              <a:t>Tuberculosis (TB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Rectangle 8"/>
          <p:cNvSpPr/>
          <p:nvPr/>
        </p:nvSpPr>
        <p:spPr>
          <a:xfrm>
            <a:off x="468360" y="1197000"/>
            <a:ext cx="83469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enggunaan mesin, peralatan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han, lingkungan dan sistem kerj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AutoShape 9"/>
          <p:cNvSpPr/>
          <p:nvPr/>
        </p:nvSpPr>
        <p:spPr>
          <a:xfrm>
            <a:off x="5435640" y="2421000"/>
            <a:ext cx="649080" cy="2087640"/>
          </a:xfrm>
          <a:custGeom>
            <a:avLst/>
            <a:gdLst>
              <a:gd name="textAreaLeft" fmla="*/ 86760 w 649080"/>
              <a:gd name="textAreaRight" fmla="*/ 562320 w 649080"/>
              <a:gd name="textAreaTop" fmla="*/ 365400 h 2087640"/>
              <a:gd name="textAreaBottom" fmla="*/ 1513800 h 208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60160" y="228600"/>
            <a:ext cx="8583480" cy="982800"/>
          </a:xfrm>
          <a:prstGeom prst="rect">
            <a:avLst/>
          </a:prstGeom>
          <a:solidFill>
            <a:srgbClr val="463416"/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Sylfaen"/>
                <a:ea typeface="Times New Roman"/>
              </a:rPr>
              <a:t>PROGRAM KESEHATAN KERJA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1448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Sylfaen"/>
              </a:rPr>
              <a:t>Program / Kegiatan harus bersifat komprehensif, meliputi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15920" indent="-266760">
              <a:lnSpc>
                <a:spcPct val="95000"/>
              </a:lnSpc>
              <a:spcBef>
                <a:spcPts val="9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Sylfaen"/>
              </a:rPr>
              <a:t>Pencegahan (Preventif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1015920" indent="-266760">
              <a:lnSpc>
                <a:spcPct val="95000"/>
              </a:lnSpc>
              <a:spcBef>
                <a:spcPts val="9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Sylfaen"/>
              </a:rPr>
              <a:t>Pembinaan (Promotif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1015920" indent="-266760">
              <a:lnSpc>
                <a:spcPct val="95000"/>
              </a:lnSpc>
              <a:spcBef>
                <a:spcPts val="9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Sylfaen"/>
              </a:rPr>
              <a:t>Pengobatan (Kuratif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1015920" indent="-266760">
              <a:lnSpc>
                <a:spcPct val="95000"/>
              </a:lnSpc>
              <a:spcBef>
                <a:spcPts val="9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Sylfaen"/>
              </a:rPr>
              <a:t>Pemulihan (Rehabilitatif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" name="Picture 4" descr="ag00630_"/>
          <p:cNvPicPr/>
          <p:nvPr/>
        </p:nvPicPr>
        <p:blipFill>
          <a:blip r:embed="rId1"/>
          <a:stretch/>
        </p:blipFill>
        <p:spPr>
          <a:xfrm>
            <a:off x="6477120" y="5105520"/>
            <a:ext cx="26668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4560" y="240840"/>
            <a:ext cx="8443800" cy="95580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cef9fe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Sylfaen"/>
              </a:rPr>
              <a:t>TUGAS POKOK PELAYANAN KESEHATAN KERJA</a:t>
            </a:r>
            <a:br>
              <a:rPr sz="2800"/>
            </a:br>
            <a:r>
              <a:rPr b="1" i="1" lang="en-US" sz="2800" spc="-1" strike="noStrike">
                <a:solidFill>
                  <a:srgbClr val="cc0000"/>
                </a:solidFill>
                <a:latin typeface="Sylfaen"/>
              </a:rPr>
              <a:t>PERMENAKERTRANS NO. Per. 03 /Men/1982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8489880" cy="504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 fontScale="98000"/>
          </a:bodyPr>
          <a:p>
            <a:pPr marL="597240" indent="-59724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CG Omeg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G Omega"/>
              </a:rPr>
              <a:t>Pemeriksaan kesehatan tenaga kerj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CG Omeg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G Omega"/>
              </a:rPr>
              <a:t>Pembinaan &amp; pengawasan Penyesuaian pekerjaan thd tenaga kerj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CG Omeg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G Omega"/>
              </a:rPr>
              <a:t>Pembinaan &amp; pengawasan Lingkungan Kerj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CG Omeg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G Omega"/>
              </a:rPr>
              <a:t>Pembinaan &amp; pengawasan sanitai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CG Omeg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G Omega"/>
              </a:rPr>
              <a:t>Pembinaan &amp; pengawasan perlengkapan utk kes. tenaga kerj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CG Omeg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G Omega"/>
              </a:rPr>
              <a:t>Pencegahan dan pengobatan thd penyakit umum &amp; PA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CG Omeg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G Omega"/>
              </a:rPr>
              <a:t>P3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CG Omeg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G Omega"/>
              </a:rPr>
              <a:t>Latihan Petugas P3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CG Omeg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G Omega"/>
              </a:rPr>
              <a:t>Perencanaan tmp kerja, APD, gizi, &amp; penyelenggaraan makanan di tmp kerj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CG Omega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G Omega"/>
              </a:rPr>
              <a:t>Rehabilitasi akibat Kec atau PA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CG Omega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G Omega"/>
              </a:rPr>
              <a:t>Pembinaan thd tenaga kerja yg punya kelainan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CG Omega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G Omega"/>
              </a:rPr>
              <a:t>Laporan berkala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e3ff"/>
                </a:solidFill>
                <a:latin typeface="Arial"/>
              </a:rPr>
              <a:t>Kewajiban-Kewajiban</a:t>
            </a:r>
            <a:br>
              <a:rPr sz="2800"/>
            </a:br>
            <a:r>
              <a:rPr b="1" lang="en-US" sz="2800" spc="-1" strike="noStrike">
                <a:solidFill>
                  <a:srgbClr val="e3e3ff"/>
                </a:solidFill>
                <a:latin typeface="Arial"/>
              </a:rPr>
              <a:t>Dalam Pelayanan Kesehatan Kerja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4920" y="1484280"/>
            <a:ext cx="8610480" cy="52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Pengurus Perusahaan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mberikan fasilitas PKK sesuai kemajuan ilmu &amp; teknolog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mberikan kebebasan profesional kepada dokter yang menjalankan Pelayanan Kesehatan Kerj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95280" indent="-380880" algn="just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kter dan tenaga kesehatan dalam melaksanakan  Pelayanan Kesehatan Kerja bebas memasuki tempat-tempat kerja untuk melakukan pemeriksaan-pemeriksan dan mendapatkan keterangan-keterangan yang diperluka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nyampaikan laporan pelaksanaan PKK 1 (satu ) bulan sekali disampaikan kepada Dinas Tenaga Kerja setempat dengan tembusan Departemen Tenaga Kerja dan Transmigrasi up. Direktur Pengawasan Norma K3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Arial"/>
              </a:rPr>
              <a:t>Dokter dan Tenaga Kesehatan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mberikan  keterangan2 tentang PKK kepada Pegawai Pengawas Keselamatan dan Kesehatan Kerja jika diperluka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e3ff"/>
                </a:solidFill>
                <a:latin typeface="Arial"/>
              </a:rPr>
              <a:t>Pelaporan </a:t>
            </a:r>
            <a:br>
              <a:rPr sz="2800"/>
            </a:br>
            <a:r>
              <a:rPr b="1" lang="en-US" sz="2800" spc="-1" strike="noStrike">
                <a:solidFill>
                  <a:srgbClr val="e3e3ff"/>
                </a:solidFill>
                <a:latin typeface="Arial"/>
              </a:rPr>
              <a:t>Penyelenggaraan Pelayanan Kesehatan Kerja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09120" y="1197000"/>
            <a:ext cx="8077320" cy="49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31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enis Pelaporan meliputi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1640" indent="-43164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Jumlah kunjungan pasien yang berobat, terdiri dari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88840" indent="-3427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Kunjunga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ar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88840" indent="-3427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Kunjungan ulang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88840" indent="-3427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Diagnosa penyak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88840" indent="-3427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Penyakit akibat kerja atau penyakit yang diduga disebabkan oleh pekerja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88840" indent="-3427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Kecelakaan kerj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-43164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Lapora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asil pemeriksaan kesehatan tenaga kerj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88840" indent="-3427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meriksaan kesehatan aw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88840" indent="-3427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meriksaan kesehatan berka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88840" indent="-3427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meriksaan kesehatan khusu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31640" indent="-43164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Lapora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asil pemantauan lingkungan kerj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1640" indent="-43164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Statistik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esehat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1640" indent="-43164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Kegiatan kesehatan kerja lainny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2" descr=""/>
          <p:cNvPicPr/>
          <p:nvPr/>
        </p:nvPicPr>
        <p:blipFill>
          <a:blip r:embed="rId1"/>
          <a:stretch/>
        </p:blipFill>
        <p:spPr>
          <a:xfrm>
            <a:off x="144360" y="144360"/>
            <a:ext cx="8945640" cy="670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"/>
          <p:cNvPicPr/>
          <p:nvPr/>
        </p:nvPicPr>
        <p:blipFill>
          <a:blip r:embed="rId1"/>
          <a:stretch/>
        </p:blipFill>
        <p:spPr>
          <a:xfrm>
            <a:off x="144360" y="144360"/>
            <a:ext cx="8945640" cy="670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"/>
          <p:cNvPicPr/>
          <p:nvPr/>
        </p:nvPicPr>
        <p:blipFill>
          <a:blip r:embed="rId1"/>
          <a:stretch/>
        </p:blipFill>
        <p:spPr>
          <a:xfrm>
            <a:off x="144360" y="144360"/>
            <a:ext cx="8945640" cy="670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e3ff"/>
                </a:solidFill>
                <a:latin typeface="Arial"/>
              </a:rPr>
              <a:t>PENYAKIT AKIBAT KERJA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solidFill>
            <a:srgbClr val="f7fbd7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00"/>
                </a:solidFill>
                <a:latin typeface="Arial"/>
              </a:rPr>
              <a:t>Setiap penyakit yang disebabkan oleh pekerjaan ata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00"/>
                </a:solidFill>
                <a:latin typeface="Arial"/>
              </a:rPr>
              <a:t>lingkungan kerj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00"/>
                </a:solidFill>
                <a:latin typeface="Arial"/>
              </a:rPr>
              <a:t>Permenakertrans No.Per.01/Men/1981 tentang Kewajiba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00"/>
                </a:solidFill>
                <a:latin typeface="Arial"/>
              </a:rPr>
              <a:t>melaporkan Penyakit Akibat Kerj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00"/>
                </a:solidFill>
                <a:latin typeface="Arial"/>
              </a:rPr>
              <a:t>Penyakit yang timbul karena hubungan kerj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00"/>
                </a:solidFill>
                <a:latin typeface="Arial"/>
              </a:rPr>
              <a:t>Penyakit yang disebabkan oleh pekerjaan atau lingkunga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00"/>
                </a:solidFill>
                <a:latin typeface="Arial"/>
              </a:rPr>
              <a:t>kerj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00"/>
                </a:solidFill>
                <a:latin typeface="Arial"/>
              </a:rPr>
              <a:t>Keppres RI No.22 Tahun 1993 tentang penyakit yang timbu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00"/>
                </a:solidFill>
                <a:latin typeface="Arial"/>
              </a:rPr>
              <a:t>karena hubungan kerj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76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e3ff"/>
                </a:solidFill>
                <a:latin typeface="Arial"/>
              </a:rPr>
              <a:t>PENYAKIT AKIBAT KERJA =</a:t>
            </a:r>
            <a:br>
              <a:rPr sz="2800"/>
            </a:br>
            <a:r>
              <a:rPr b="0" lang="en-US" sz="2800" spc="-1" strike="noStrike">
                <a:solidFill>
                  <a:srgbClr val="e3e3ff"/>
                </a:solidFill>
                <a:latin typeface="Arial"/>
              </a:rPr>
              <a:t>Penyakit yang timbul karena hubungan kerja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755640" y="2205000"/>
            <a:ext cx="7848720" cy="2448000"/>
          </a:xfrm>
          <a:prstGeom prst="rect">
            <a:avLst/>
          </a:prstGeom>
          <a:solidFill>
            <a:srgbClr val="f7fbd7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00"/>
                </a:solidFill>
                <a:latin typeface="Arial"/>
              </a:rPr>
              <a:t>JENIS-JENIS PAK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808000"/>
                </a:solidFill>
                <a:latin typeface="Arial"/>
              </a:rPr>
              <a:t>- Permenakertrans No.01/ 1981  : 30 jen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808000"/>
                </a:solidFill>
                <a:latin typeface="Arial"/>
              </a:rPr>
              <a:t>- Keppres RI No.22 / 1993            : 31 jen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e3ff"/>
                </a:solidFill>
                <a:latin typeface="Arial"/>
              </a:rPr>
              <a:t>IDENTIFIKASI POTENSI BAHAYA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solidFill>
            <a:srgbClr val="f7fbd7"/>
          </a:solidFill>
          <a:ln w="0">
            <a:noFill/>
          </a:ln>
        </p:spPr>
        <p:txBody>
          <a:bodyPr anchor="t">
            <a:normAutofit/>
          </a:bodyPr>
          <a:p>
            <a:pPr marL="590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00"/>
                </a:solidFill>
                <a:latin typeface="Arial"/>
              </a:rPr>
              <a:t>1. FAKTOR FISI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0400" indent="-59040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00"/>
                </a:solidFill>
                <a:latin typeface="Arial"/>
              </a:rPr>
              <a:t>Suhu tinggi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90400" indent="-59040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00"/>
                </a:solidFill>
                <a:latin typeface="Arial"/>
              </a:rPr>
              <a:t>Suhu rendah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90400" indent="-59040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00"/>
                </a:solidFill>
                <a:latin typeface="Arial"/>
              </a:rPr>
              <a:t>Getaran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90400" indent="-59040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00"/>
                </a:solidFill>
                <a:latin typeface="Arial"/>
                <a:ea typeface="Arial"/>
              </a:rPr>
              <a:t>Bis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90400" indent="-590400"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00"/>
                </a:solidFill>
                <a:latin typeface="Arial"/>
                <a:ea typeface="Arial"/>
              </a:rPr>
              <a:t>Radiasi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90400" indent="-590400"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00"/>
                </a:solidFill>
                <a:latin typeface="Arial"/>
              </a:rPr>
              <a:t>Tekanan Uda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395280" y="7632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ERLINDUNGAN TENAGA KERJ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AutoShape 3"/>
          <p:cNvSpPr/>
          <p:nvPr/>
        </p:nvSpPr>
        <p:spPr>
          <a:xfrm>
            <a:off x="228600" y="685800"/>
            <a:ext cx="8686800" cy="1219320"/>
          </a:xfrm>
          <a:prstGeom prst="downArrowCallout">
            <a:avLst>
              <a:gd name="adj1" fmla="val -138924"/>
              <a:gd name="adj2" fmla="val 178107"/>
              <a:gd name="adj3" fmla="val 16667"/>
              <a:gd name="adj4" fmla="val 6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PASAL 27 (2) UUD 194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CG Omega"/>
              </a:rPr>
              <a:t>Setiap Warga Negara Berhak Atas Pekerjaan Dan Penghidupan Yang Laya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CG Omega"/>
              </a:rPr>
              <a:t> </a:t>
            </a:r>
            <a:r>
              <a:rPr b="1" lang="en-US" sz="1800" spc="-1" strike="noStrike">
                <a:solidFill>
                  <a:srgbClr val="c00000"/>
                </a:solidFill>
                <a:latin typeface="CG Omega"/>
              </a:rPr>
              <a:t>Bagi Kemanusia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AutoShape 4"/>
          <p:cNvSpPr/>
          <p:nvPr/>
        </p:nvSpPr>
        <p:spPr>
          <a:xfrm>
            <a:off x="1523880" y="2133720"/>
            <a:ext cx="6096240" cy="1066680"/>
          </a:xfrm>
          <a:prstGeom prst="downArrowCallout">
            <a:avLst>
              <a:gd name="adj1" fmla="val 142892"/>
              <a:gd name="adj2" fmla="val 142879"/>
              <a:gd name="adj3" fmla="val 16667"/>
              <a:gd name="adj4" fmla="val 6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3416"/>
                </a:solidFill>
                <a:latin typeface="Times New Roman"/>
              </a:rPr>
              <a:t>UU KETENAGAKERJA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3416"/>
                </a:solidFill>
                <a:latin typeface="Times New Roman"/>
              </a:rPr>
              <a:t>NO. 13 / 200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AutoShape 5"/>
          <p:cNvSpPr/>
          <p:nvPr/>
        </p:nvSpPr>
        <p:spPr>
          <a:xfrm>
            <a:off x="1600200" y="3352680"/>
            <a:ext cx="5791320" cy="1067040"/>
          </a:xfrm>
          <a:prstGeom prst="downArrowCallout">
            <a:avLst>
              <a:gd name="adj1" fmla="val 135699"/>
              <a:gd name="adj2" fmla="val 135687"/>
              <a:gd name="adj3" fmla="val 16667"/>
              <a:gd name="adj4" fmla="val 6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UU KESELAMATAN KERJ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O. 1 / 197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Oval 8"/>
          <p:cNvSpPr/>
          <p:nvPr/>
        </p:nvSpPr>
        <p:spPr>
          <a:xfrm>
            <a:off x="3071880" y="5643720"/>
            <a:ext cx="3200400" cy="10666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37370d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370d"/>
                </a:solidFill>
                <a:latin typeface="Times New Roman"/>
              </a:rPr>
              <a:t>P.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37370d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370d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7370d"/>
                </a:solidFill>
                <a:latin typeface="Times New Roman"/>
              </a:rPr>
              <a:t>PERMEN/KEPM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37370d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370d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7370d"/>
                </a:solidFill>
                <a:latin typeface="Times New Roman"/>
              </a:rPr>
              <a:t>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AutoShape 5"/>
          <p:cNvSpPr/>
          <p:nvPr/>
        </p:nvSpPr>
        <p:spPr>
          <a:xfrm>
            <a:off x="1857240" y="4643280"/>
            <a:ext cx="5286600" cy="852480"/>
          </a:xfrm>
          <a:prstGeom prst="downArrowCallout">
            <a:avLst>
              <a:gd name="adj1" fmla="val 135755"/>
              <a:gd name="adj2" fmla="val 135713"/>
              <a:gd name="adj3" fmla="val 16667"/>
              <a:gd name="adj4" fmla="val 6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ERATURAN PELAKSANA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e3ff"/>
                </a:solidFill>
                <a:latin typeface="Arial"/>
              </a:rPr>
              <a:t>IDENTIFIKASI POTENSI BAHAYA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solidFill>
            <a:srgbClr val="f7fbd7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00"/>
                </a:solidFill>
                <a:latin typeface="Arial"/>
              </a:rPr>
              <a:t>2. FAKTOR KIM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00"/>
                </a:solidFill>
                <a:latin typeface="Arial"/>
              </a:rPr>
              <a:t>Solven, Gas, Uap, Deb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00"/>
                </a:solidFill>
                <a:latin typeface="Arial"/>
              </a:rPr>
              <a:t>Pernafasan, Kulit, Termak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00"/>
                </a:solidFill>
                <a:latin typeface="Arial"/>
              </a:rPr>
              <a:t>Masuk tubuh secara akut, kron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00"/>
                </a:solidFill>
                <a:latin typeface="Arial"/>
              </a:rPr>
              <a:t>3. FAKTOR BIOLOG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00"/>
                </a:solidFill>
                <a:latin typeface="Arial"/>
              </a:rPr>
              <a:t>Virus, Bakteri, Parasit, Jamur (Hepatitis,TBC,Filariasi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00"/>
                </a:solidFill>
                <a:latin typeface="Arial"/>
              </a:rPr>
              <a:t>4. </a:t>
            </a:r>
            <a:r>
              <a:rPr b="1" lang="en-US" sz="2000" spc="-1" strike="noStrike">
                <a:solidFill>
                  <a:srgbClr val="808000"/>
                </a:solidFill>
                <a:latin typeface="Arial"/>
              </a:rPr>
              <a:t>FAKTOR FISIOLOGI (ERGONOMI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00"/>
                </a:solidFill>
                <a:latin typeface="Arial"/>
              </a:rPr>
              <a:t>Cara / Posisi / Sikap kerj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00"/>
                </a:solidFill>
                <a:latin typeface="Arial"/>
              </a:rPr>
              <a:t>5. FAKTOR MENTAL PSIKOLOG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00"/>
                </a:solidFill>
                <a:latin typeface="Arial"/>
              </a:rPr>
              <a:t>Perilaku, Kebiasaan, Kerja Monoton, Hub.kerja kurang baik, Upah kura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Oval 57"/>
          <p:cNvSpPr/>
          <p:nvPr/>
        </p:nvSpPr>
        <p:spPr>
          <a:xfrm>
            <a:off x="990720" y="1981080"/>
            <a:ext cx="6705360" cy="3886200"/>
          </a:xfrm>
          <a:prstGeom prst="ellipse">
            <a:avLst/>
          </a:prstGeom>
          <a:solidFill>
            <a:srgbClr val="003399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00"/>
                </a:solidFill>
                <a:latin typeface="Arial"/>
              </a:rPr>
              <a:t>PENCEGAHAN </a:t>
            </a:r>
            <a:br>
              <a:rPr sz="3200"/>
            </a:br>
            <a:r>
              <a:rPr b="0" lang="en-US" sz="3200" spc="-1" strike="noStrike">
                <a:solidFill>
                  <a:srgbClr val="808000"/>
                </a:solidFill>
                <a:latin typeface="Arial"/>
              </a:rPr>
              <a:t>PENYAKIT AKIBAT KERJA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1" name="AutoShape 36"/>
          <p:cNvSpPr/>
          <p:nvPr/>
        </p:nvSpPr>
        <p:spPr>
          <a:xfrm>
            <a:off x="304920" y="3352680"/>
            <a:ext cx="2286000" cy="685800"/>
          </a:xfrm>
          <a:prstGeom prst="wedgeRectCallout">
            <a:avLst>
              <a:gd name="adj1" fmla="val -39652"/>
              <a:gd name="adj2" fmla="val -39583"/>
            </a:avLst>
          </a:prstGeom>
          <a:solidFill>
            <a:srgbClr val="3399ff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DENTIFIKASI ANALISIS RISIK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AutoShape 37"/>
          <p:cNvSpPr/>
          <p:nvPr/>
        </p:nvSpPr>
        <p:spPr>
          <a:xfrm>
            <a:off x="2895480" y="1905120"/>
            <a:ext cx="3657600" cy="609480"/>
          </a:xfrm>
          <a:prstGeom prst="wedgeRectCallout">
            <a:avLst>
              <a:gd name="adj1" fmla="val -26736"/>
              <a:gd name="adj2" fmla="val 39064"/>
            </a:avLst>
          </a:prstGeom>
          <a:solidFill>
            <a:srgbClr val="3399ff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ENERAPAN MANAJEMEN KESEHATAN KERJ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AutoShape 38"/>
          <p:cNvSpPr/>
          <p:nvPr/>
        </p:nvSpPr>
        <p:spPr>
          <a:xfrm>
            <a:off x="6858000" y="3200400"/>
            <a:ext cx="1905120" cy="609480"/>
          </a:xfrm>
          <a:prstGeom prst="wedgeRectCallout">
            <a:avLst>
              <a:gd name="adj1" fmla="val -750"/>
              <a:gd name="adj2" fmla="val -4425"/>
            </a:avLst>
          </a:prstGeom>
          <a:solidFill>
            <a:srgbClr val="3399ff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ENGUJIAN LINGK.KERJ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AutoShape 39"/>
          <p:cNvSpPr/>
          <p:nvPr/>
        </p:nvSpPr>
        <p:spPr>
          <a:xfrm>
            <a:off x="228600" y="4572000"/>
            <a:ext cx="1981080" cy="1143000"/>
          </a:xfrm>
          <a:prstGeom prst="wedgeRectCallout">
            <a:avLst>
              <a:gd name="adj1" fmla="val -33972"/>
              <a:gd name="adj2" fmla="val 40555"/>
            </a:avLst>
          </a:prstGeom>
          <a:solidFill>
            <a:srgbClr val="3399ff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ENGUJIAN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KESEHATA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EMANTAUA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IOLOG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AutoShape 40"/>
          <p:cNvSpPr/>
          <p:nvPr/>
        </p:nvSpPr>
        <p:spPr>
          <a:xfrm>
            <a:off x="3581280" y="3429000"/>
            <a:ext cx="2286000" cy="609480"/>
          </a:xfrm>
          <a:prstGeom prst="wedgeRectCallout">
            <a:avLst>
              <a:gd name="adj1" fmla="val -27083"/>
              <a:gd name="adj2" fmla="val 34115"/>
            </a:avLst>
          </a:prstGeom>
          <a:solidFill>
            <a:srgbClr val="3399ff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ERATURAN PERUNDANGA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AutoShape 41"/>
          <p:cNvSpPr/>
          <p:nvPr/>
        </p:nvSpPr>
        <p:spPr>
          <a:xfrm>
            <a:off x="3581280" y="4495680"/>
            <a:ext cx="2286000" cy="609840"/>
          </a:xfrm>
          <a:prstGeom prst="wedgeRectCallout">
            <a:avLst>
              <a:gd name="adj1" fmla="val 9305"/>
              <a:gd name="adj2" fmla="val 44009"/>
            </a:avLst>
          </a:prstGeom>
          <a:solidFill>
            <a:srgbClr val="3399ff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EMANTAUAN EVALUAS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AutoShape 42"/>
          <p:cNvSpPr/>
          <p:nvPr/>
        </p:nvSpPr>
        <p:spPr>
          <a:xfrm>
            <a:off x="6858000" y="4419720"/>
            <a:ext cx="2057400" cy="685800"/>
          </a:xfrm>
          <a:prstGeom prst="wedgeRectCallout">
            <a:avLst>
              <a:gd name="adj1" fmla="val -2777"/>
              <a:gd name="adj2" fmla="val 25231"/>
            </a:avLst>
          </a:prstGeom>
          <a:solidFill>
            <a:srgbClr val="3399ff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EKNOLOGI PENGENDALIA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AutoShape 43"/>
          <p:cNvSpPr/>
          <p:nvPr/>
        </p:nvSpPr>
        <p:spPr>
          <a:xfrm>
            <a:off x="3581280" y="5486400"/>
            <a:ext cx="2286000" cy="457200"/>
          </a:xfrm>
          <a:prstGeom prst="wedgeRectCallout">
            <a:avLst>
              <a:gd name="adj1" fmla="val -42569"/>
              <a:gd name="adj2" fmla="val -13888"/>
            </a:avLst>
          </a:prstGeom>
          <a:solidFill>
            <a:srgbClr val="3399ff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00"/>
                </a:solidFill>
                <a:latin typeface="Arial"/>
              </a:rPr>
              <a:t>PELATIHA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AutoShape 44"/>
          <p:cNvSpPr/>
          <p:nvPr/>
        </p:nvSpPr>
        <p:spPr>
          <a:xfrm>
            <a:off x="6858000" y="5357880"/>
            <a:ext cx="2286000" cy="533160"/>
          </a:xfrm>
          <a:prstGeom prst="wedgeRectCallout">
            <a:avLst>
              <a:gd name="adj1" fmla="val -47083"/>
              <a:gd name="adj2" fmla="val -2976"/>
            </a:avLst>
          </a:prstGeom>
          <a:solidFill>
            <a:srgbClr val="3399ff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IMINASI, SUBSTITUS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KNIS, ADM, AP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AutoShape 45"/>
          <p:cNvSpPr/>
          <p:nvPr/>
        </p:nvSpPr>
        <p:spPr>
          <a:xfrm>
            <a:off x="4267080" y="2743200"/>
            <a:ext cx="76212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2" descr="ph01938j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0" y="10008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3" descr="ag00373_"/>
          <p:cNvPicPr/>
          <p:nvPr/>
        </p:nvPicPr>
        <p:blipFill>
          <a:blip r:embed="rId2"/>
          <a:stretch/>
        </p:blipFill>
        <p:spPr>
          <a:xfrm>
            <a:off x="762120" y="2600280"/>
            <a:ext cx="3047760" cy="2928960"/>
          </a:xfrm>
          <a:prstGeom prst="rect">
            <a:avLst/>
          </a:prstGeom>
          <a:ln w="0">
            <a:noFill/>
          </a:ln>
        </p:spPr>
      </p:pic>
      <p:sp>
        <p:nvSpPr>
          <p:cNvPr id="243" name="WordArt 4"/>
          <p:cNvSpPr txBox="1"/>
          <p:nvPr/>
        </p:nvSpPr>
        <p:spPr>
          <a:xfrm>
            <a:off x="3419640" y="2421000"/>
            <a:ext cx="3457440" cy="144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THANK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16062008011"/>
          <p:cNvPicPr/>
          <p:nvPr/>
        </p:nvPicPr>
        <p:blipFill>
          <a:blip r:embed="rId1"/>
          <a:stretch/>
        </p:blipFill>
        <p:spPr>
          <a:xfrm>
            <a:off x="3505320" y="3962520"/>
            <a:ext cx="2438280" cy="28191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3" descr="Pekerja_anak_8"/>
          <p:cNvPicPr/>
          <p:nvPr/>
        </p:nvPicPr>
        <p:blipFill>
          <a:blip r:embed="rId2"/>
          <a:stretch/>
        </p:blipFill>
        <p:spPr>
          <a:xfrm>
            <a:off x="6095880" y="76320"/>
            <a:ext cx="3124440" cy="37335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" descr=""/>
          <p:cNvPicPr/>
          <p:nvPr/>
        </p:nvPicPr>
        <p:blipFill>
          <a:blip r:embed="rId3"/>
          <a:stretch/>
        </p:blipFill>
        <p:spPr>
          <a:xfrm>
            <a:off x="0" y="1523880"/>
            <a:ext cx="3505320" cy="5334120"/>
          </a:xfrm>
          <a:prstGeom prst="rect">
            <a:avLst/>
          </a:prstGeom>
          <a:ln w="0">
            <a:noFill/>
          </a:ln>
        </p:spPr>
      </p:pic>
      <p:sp>
        <p:nvSpPr>
          <p:cNvPr id="152" name="WordArt 5"/>
          <p:cNvSpPr txBox="1"/>
          <p:nvPr/>
        </p:nvSpPr>
        <p:spPr>
          <a:xfrm>
            <a:off x="304920" y="380880"/>
            <a:ext cx="32004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27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99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Masalah kemanusiaan</a:t>
            </a:r>
            <a:endParaRPr b="1" lang="en-US" sz="1800" spc="1" strike="noStrike">
              <a:ln w="0">
                <a:noFill/>
              </a:ln>
              <a:solidFill>
                <a:srgbClr val="99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53" name="Picture 6" descr="Pekerja_anak_13"/>
          <p:cNvPicPr/>
          <p:nvPr/>
        </p:nvPicPr>
        <p:blipFill>
          <a:blip r:embed="rId4"/>
          <a:stretch/>
        </p:blipFill>
        <p:spPr>
          <a:xfrm>
            <a:off x="3657600" y="76320"/>
            <a:ext cx="2971800" cy="23619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16062008201"/>
          <p:cNvPicPr/>
          <p:nvPr/>
        </p:nvPicPr>
        <p:blipFill>
          <a:blip r:embed="rId5"/>
          <a:stretch/>
        </p:blipFill>
        <p:spPr>
          <a:xfrm>
            <a:off x="3048120" y="1523880"/>
            <a:ext cx="2981160" cy="25146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"/>
          <p:cNvPicPr/>
          <p:nvPr/>
        </p:nvPicPr>
        <p:blipFill>
          <a:blip r:embed="rId6"/>
          <a:stretch/>
        </p:blipFill>
        <p:spPr>
          <a:xfrm>
            <a:off x="5943600" y="2438280"/>
            <a:ext cx="32767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Kasus BI"/>
          <p:cNvPicPr/>
          <p:nvPr/>
        </p:nvPicPr>
        <p:blipFill>
          <a:blip r:embed="rId1"/>
          <a:stretch/>
        </p:blipFill>
        <p:spPr>
          <a:xfrm>
            <a:off x="0" y="0"/>
            <a:ext cx="3200400" cy="312408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2895480" y="1752480"/>
            <a:ext cx="3353040" cy="2971800"/>
          </a:xfrm>
          <a:prstGeom prst="flowChartConnector">
            <a:avLst/>
          </a:prstGeom>
          <a:gradFill rotWithShape="0">
            <a:gsLst>
              <a:gs pos="0">
                <a:srgbClr val="32757a"/>
              </a:gs>
              <a:gs pos="100000">
                <a:srgbClr val="17363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Picture 4" descr="tilestraining"/>
          <p:cNvPicPr/>
          <p:nvPr/>
        </p:nvPicPr>
        <p:blipFill>
          <a:blip r:embed="rId2"/>
          <a:stretch/>
        </p:blipFill>
        <p:spPr>
          <a:xfrm>
            <a:off x="6629400" y="2514600"/>
            <a:ext cx="2514600" cy="23623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" descr="13062008194"/>
          <p:cNvPicPr/>
          <p:nvPr/>
        </p:nvPicPr>
        <p:blipFill>
          <a:blip r:embed="rId3"/>
          <a:stretch/>
        </p:blipFill>
        <p:spPr>
          <a:xfrm>
            <a:off x="5489640" y="4861080"/>
            <a:ext cx="3654360" cy="19969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s_K1a22203"/>
          <p:cNvPicPr/>
          <p:nvPr/>
        </p:nvPicPr>
        <p:blipFill>
          <a:blip r:embed="rId4"/>
          <a:stretch/>
        </p:blipFill>
        <p:spPr>
          <a:xfrm>
            <a:off x="2843280" y="5181480"/>
            <a:ext cx="3313080" cy="16765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7" descr="keb kilang 3"/>
          <p:cNvPicPr/>
          <p:nvPr/>
        </p:nvPicPr>
        <p:blipFill>
          <a:blip r:embed="rId5"/>
          <a:stretch/>
        </p:blipFill>
        <p:spPr>
          <a:xfrm>
            <a:off x="0" y="3124080"/>
            <a:ext cx="2362320" cy="18288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8" descr="kilang keb 4"/>
          <p:cNvPicPr/>
          <p:nvPr/>
        </p:nvPicPr>
        <p:blipFill>
          <a:blip r:embed="rId6"/>
          <a:stretch/>
        </p:blipFill>
        <p:spPr>
          <a:xfrm>
            <a:off x="0" y="4800600"/>
            <a:ext cx="3200400" cy="20574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9" descr="Pekerja_anak_8"/>
          <p:cNvPicPr/>
          <p:nvPr/>
        </p:nvPicPr>
        <p:blipFill>
          <a:blip r:embed="rId7"/>
          <a:stretch/>
        </p:blipFill>
        <p:spPr>
          <a:xfrm>
            <a:off x="5181480" y="0"/>
            <a:ext cx="2084400" cy="1905120"/>
          </a:xfrm>
          <a:prstGeom prst="rect">
            <a:avLst/>
          </a:prstGeom>
          <a:ln w="0">
            <a:noFill/>
          </a:ln>
        </p:spPr>
      </p:pic>
      <p:sp>
        <p:nvSpPr>
          <p:cNvPr id="164" name="AutoShape 10"/>
          <p:cNvSpPr/>
          <p:nvPr/>
        </p:nvSpPr>
        <p:spPr>
          <a:xfrm>
            <a:off x="2133720" y="1066680"/>
            <a:ext cx="4876560" cy="4343400"/>
          </a:xfrm>
          <a:custGeom>
            <a:avLst/>
            <a:gdLst>
              <a:gd name="textAreaLeft" fmla="*/ 713880 w 4876560"/>
              <a:gd name="textAreaRight" fmla="*/ 4162680 w 4876560"/>
              <a:gd name="textAreaTop" fmla="*/ 635760 h 4343400"/>
              <a:gd name="textAreaBottom" fmla="*/ 3707640 h 4343400"/>
            </a:gdLst>
            <a:ahLst/>
            <a:rect l="textAreaLeft" t="textAreaTop" r="textAreaRight" b="textAreaBottom"/>
            <a:pathLst>
              <a:path w="21600" h="21600">
                <a:moveTo>
                  <a:pt x="18344" y="10239"/>
                </a:moveTo>
                <a:cubicBezTo>
                  <a:pt x="18050" y="6289"/>
                  <a:pt x="14760" y="3235"/>
                  <a:pt x="10800" y="3235"/>
                </a:cubicBezTo>
                <a:cubicBezTo>
                  <a:pt x="6621" y="3235"/>
                  <a:pt x="3235" y="6621"/>
                  <a:pt x="3235" y="10800"/>
                </a:cubicBezTo>
                <a:cubicBezTo>
                  <a:pt x="3235" y="14978"/>
                  <a:pt x="6621" y="18365"/>
                  <a:pt x="10800" y="18365"/>
                </a:cubicBezTo>
                <a:cubicBezTo>
                  <a:pt x="13946" y="18365"/>
                  <a:pt x="16764" y="16417"/>
                  <a:pt x="17876" y="13473"/>
                </a:cubicBezTo>
                <a:lnTo>
                  <a:pt x="20903" y="14616"/>
                </a:lnTo>
                <a:cubicBezTo>
                  <a:pt x="19315" y="18819"/>
                  <a:pt x="15292" y="21599"/>
                  <a:pt x="10800" y="21600"/>
                </a:cubicBezTo>
                <a:cubicBezTo>
                  <a:pt x="4835" y="21600"/>
                  <a:pt x="0" y="16764"/>
                  <a:pt x="0" y="10800"/>
                </a:cubicBezTo>
                <a:cubicBezTo>
                  <a:pt x="0" y="4835"/>
                  <a:pt x="4835" y="0"/>
                  <a:pt x="10800" y="0"/>
                </a:cubicBezTo>
                <a:cubicBezTo>
                  <a:pt x="16454" y="-1"/>
                  <a:pt x="21151" y="4360"/>
                  <a:pt x="21570" y="9999"/>
                </a:cubicBezTo>
                <a:lnTo>
                  <a:pt x="24262" y="9798"/>
                </a:lnTo>
                <a:lnTo>
                  <a:pt x="20277" y="14425"/>
                </a:lnTo>
                <a:lnTo>
                  <a:pt x="15651" y="10439"/>
                </a:lnTo>
                <a:lnTo>
                  <a:pt x="18344" y="10239"/>
                </a:lnTo>
                <a:close/>
              </a:path>
            </a:pathLst>
          </a:custGeom>
          <a:solidFill>
            <a:srgbClr val="4763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Picture 11" descr="Pekerja_anak_13"/>
          <p:cNvPicPr/>
          <p:nvPr/>
        </p:nvPicPr>
        <p:blipFill>
          <a:blip r:embed="rId8"/>
          <a:stretch/>
        </p:blipFill>
        <p:spPr>
          <a:xfrm>
            <a:off x="6858000" y="0"/>
            <a:ext cx="2314440" cy="2519280"/>
          </a:xfrm>
          <a:prstGeom prst="rect">
            <a:avLst/>
          </a:prstGeom>
          <a:ln w="0">
            <a:noFill/>
          </a:ln>
        </p:spPr>
      </p:pic>
      <p:sp>
        <p:nvSpPr>
          <p:cNvPr id="166" name="AutoShape 12"/>
          <p:cNvSpPr/>
          <p:nvPr/>
        </p:nvSpPr>
        <p:spPr>
          <a:xfrm rot="19315200">
            <a:off x="2133720" y="4114800"/>
            <a:ext cx="838080" cy="20462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a21c0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WordArt 13"/>
          <p:cNvSpPr txBox="1"/>
          <p:nvPr/>
        </p:nvSpPr>
        <p:spPr>
          <a:xfrm>
            <a:off x="2743200" y="1600200"/>
            <a:ext cx="3657600" cy="3200400"/>
          </a:xfrm>
          <a:prstGeom prst="rect">
            <a:avLst/>
          </a:prstGeom>
        </p:spPr>
        <p:txBody>
          <a:bodyPr wrap="none" fromWordArt="1" lIns="90000" rIns="90000" tIns="46800" bIns="46800" anchor="t">
            <a:prstTxWarp prst="textCircle">
              <a:avLst>
                <a:gd name="adj" fmla="val 1085707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LABOR INSPECTION SYSTE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68" name="WordArt 14"/>
          <p:cNvSpPr txBox="1"/>
          <p:nvPr/>
        </p:nvSpPr>
        <p:spPr>
          <a:xfrm>
            <a:off x="3429000" y="2895480"/>
            <a:ext cx="22096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OCIAL JUTICE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9" name="AutoShape 15"/>
          <p:cNvSpPr/>
          <p:nvPr/>
        </p:nvSpPr>
        <p:spPr>
          <a:xfrm rot="13074600">
            <a:off x="6552720" y="3809520"/>
            <a:ext cx="838440" cy="18288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a21c0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WordArt 16"/>
          <p:cNvSpPr txBox="1"/>
          <p:nvPr/>
        </p:nvSpPr>
        <p:spPr>
          <a:xfrm>
            <a:off x="2438280" y="190440"/>
            <a:ext cx="426744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VISI  WASNAKER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1" name="AutoShape 17"/>
          <p:cNvSpPr/>
          <p:nvPr/>
        </p:nvSpPr>
        <p:spPr>
          <a:xfrm rot="19548600">
            <a:off x="6553080" y="829800"/>
            <a:ext cx="990720" cy="19414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a21c0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AutoShape 18"/>
          <p:cNvSpPr/>
          <p:nvPr/>
        </p:nvSpPr>
        <p:spPr>
          <a:xfrm rot="1797600">
            <a:off x="1752120" y="685440"/>
            <a:ext cx="914400" cy="19051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a21c0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54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e3ff"/>
                </a:solidFill>
                <a:latin typeface="Garamond"/>
                <a:ea typeface="Tahoma"/>
              </a:rPr>
              <a:t>UU No.13 Tahun 2003   </a:t>
            </a:r>
            <a:br>
              <a:rPr sz="3600"/>
            </a:br>
            <a:r>
              <a:rPr b="0" lang="en-US" sz="3600" spc="-1" strike="noStrike">
                <a:solidFill>
                  <a:srgbClr val="e3e3ff"/>
                </a:solidFill>
                <a:latin typeface="Garamond"/>
                <a:ea typeface="Tahoma"/>
              </a:rPr>
              <a:t>tentang</a:t>
            </a:r>
            <a:br>
              <a:rPr sz="3600"/>
            </a:br>
            <a:r>
              <a:rPr b="0" lang="en-US" sz="3600" spc="-1" strike="noStrike">
                <a:solidFill>
                  <a:srgbClr val="e3e3ff"/>
                </a:solidFill>
                <a:latin typeface="Garamond"/>
                <a:ea typeface="Tahoma"/>
              </a:rPr>
              <a:t>Ketenagakerjaan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829152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2948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e3ff"/>
                </a:solidFill>
                <a:latin typeface="Garamond"/>
                <a:ea typeface="Tahoma"/>
              </a:rPr>
              <a:t>Pasal 8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29480" indent="-4294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e3ff"/>
                </a:solidFill>
                <a:latin typeface="Garamond"/>
                <a:ea typeface="Tahoma"/>
              </a:rPr>
              <a:t>Setiap pekerja / buruh mempunyai hak untuk memperoleh perlindungan atas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87680" indent="-357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Garamon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  <a:ea typeface="Tahoma"/>
              </a:rPr>
              <a:t>Keselamatan dan Kesehatan Kerj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87680" indent="-35784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Garamon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3e3ff"/>
                </a:solidFill>
                <a:latin typeface="Garamond"/>
                <a:ea typeface="Tahoma"/>
              </a:rPr>
              <a:t>Moral dan kesusila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87680" indent="-35784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Garamon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3e3ff"/>
                </a:solidFill>
                <a:latin typeface="Garamond"/>
                <a:ea typeface="Tahoma"/>
              </a:rPr>
              <a:t>Perlakuan yang seuai dengan harkat dan martabatmanusia serta nilai-nilai agam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9480" indent="-4294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  <a:ea typeface="Tahoma"/>
              </a:rPr>
              <a:t>Untuk melindungi keselamatan pekerja / buruh guna mewujudkan produktivitas kerja yang optimal diselenggarakan upaya K3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29480" indent="-4294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e3ff"/>
                </a:solidFill>
                <a:latin typeface="Garamond"/>
                <a:ea typeface="Tahoma"/>
              </a:rPr>
              <a:t>Perlindungan sebagaimana pada ayat (1) dan ayat (2) dilaksanakan dengan peraturan perundangan yang berlaku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324000" y="1557000"/>
            <a:ext cx="8496000" cy="3933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Garamond"/>
              </a:rPr>
              <a:t>UU NO. 1 TAHUN 1970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Garamond"/>
              </a:rPr>
              <a:t>Setiap tenaga kerja</a:t>
            </a:r>
            <a:r>
              <a:rPr b="1" lang="en-US" sz="3600" spc="-1" strike="noStrike">
                <a:solidFill>
                  <a:srgbClr val="e3e3ff"/>
                </a:solidFill>
                <a:latin typeface="Garamond"/>
              </a:rPr>
              <a:t> berhak mendapat perlindungan atas keselamatan dalam melakukan pekerjaan untuk kesejahteraan hidup dan meningkatkan produksi serta produktivita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6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1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/>
          <p:cNvSpPr/>
          <p:nvPr/>
        </p:nvSpPr>
        <p:spPr>
          <a:xfrm>
            <a:off x="304920" y="228600"/>
            <a:ext cx="8534160" cy="16160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e3ff"/>
                </a:solidFill>
                <a:latin typeface="Garamond"/>
              </a:rPr>
              <a:t>UU No.1 Tahun 1970 </a:t>
            </a:r>
            <a:br>
              <a:rPr sz="3600"/>
            </a:br>
            <a:r>
              <a:rPr b="0" lang="en-US" sz="3600" spc="-1" strike="noStrike">
                <a:solidFill>
                  <a:srgbClr val="e3e3ff"/>
                </a:solidFill>
                <a:latin typeface="Garamond"/>
              </a:rPr>
              <a:t>tentang</a:t>
            </a:r>
            <a:br>
              <a:rPr sz="3600"/>
            </a:br>
            <a:r>
              <a:rPr b="0" lang="en-US" sz="3600" spc="-1" strike="noStrike">
                <a:solidFill>
                  <a:srgbClr val="e3e3ff"/>
                </a:solidFill>
                <a:latin typeface="Garamond"/>
              </a:rPr>
              <a:t>Keselamatan Kerja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64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Garamond"/>
              </a:rPr>
              <a:t>Mewajibkan kepada pengurus untuk :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Melaksanakan ketentuan dan syarat syarat K3 sesuai ketentuan yang berlaku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Memastikan semua potensi bahaya telah dikendalikan secara am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Menjelaskan kepada para pekerja tentang potensi bahaya yang ada dan cara menghidari terjadinya kecelaka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Membentuk Lembaga K3, menempatkan Personel K3 (Ahli K3, Dokter/Petugas Medis/Operator, dll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Menerapkan SMK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49500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SYARAT-SYARAT K3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UJUAN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e3ff"/>
                </a:solidFill>
                <a:latin typeface="Arial"/>
              </a:rPr>
              <a:t>Menghindarkan risik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Avoiding of Risk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e3ff"/>
                </a:solidFill>
                <a:latin typeface="Arial"/>
              </a:rPr>
              <a:t>Mencegah kecelakaan kerj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Preventing of Acciden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e3ff"/>
                </a:solidFill>
                <a:latin typeface="Arial"/>
              </a:rPr>
              <a:t>Mengurangi Konsekuensi/ akibat yang ditimbulkan oleh kecelakaan kerj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Mitigating of Consequenc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4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7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0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3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6" dur="5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6T00:43:19Z</dcterms:created>
  <dc:creator>TOSHIBA</dc:creator>
  <dc:description/>
  <dc:language>en-US</dc:language>
  <cp:lastModifiedBy>R202TX1</cp:lastModifiedBy>
  <cp:lastPrinted>2018-02-26T21:57:15Z</cp:lastPrinted>
  <dcterms:modified xsi:type="dcterms:W3CDTF">2018-02-27T04:29:54Z</dcterms:modified>
  <cp:revision>323</cp:revision>
  <dc:subject/>
  <dc:title>PowerPoint Presentation</dc:title>
</cp:coreProperties>
</file>